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C27-EC01-42E3-8720-651C8E58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63B-1E56-476B-8DB0-1EAFF21C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E547-D5B3-4A23-9AEF-25AE565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5B3AA-AAD5-4597-B610-9D679261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47F0D-4230-4FB3-89F9-03B5736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D062E-374E-45E2-BF5B-A693E01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2643D-6E71-4482-9EB0-31CEC5E3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415C-2D57-4772-BBD0-1982E3F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003C-F0B0-47D5-9632-221EC7D9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8F1C2-B2CB-4919-BE8D-17E8CA92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B7930-0A0F-4F8E-8BA8-BBED3C30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530E2-4B03-4FD2-B903-51901E44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876-67CC-4B10-855C-07E82BF9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7893A-8B59-409D-9716-AB14AA41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F380B-F933-46EE-B337-9B64502C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D86B9-D598-403E-9FB8-4C7C8421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76326-3D62-47AE-871C-07BC0412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A7CAD-8E0A-41D3-BAD4-972F938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93701-7D5F-42A4-804C-E5F7EC6C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C8C6D-52BE-4379-AC91-886F4AF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3DCCD-B50D-41EE-8C11-7994ED72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E80D5-96AD-4F4C-B44D-D9F8BD87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C774D-C1FD-4FAE-AA8C-CA55C435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71E-4730-4F54-B0D5-B4CC19A0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8715C-DA52-443E-B8C9-FD046E0F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76F-6C19-4189-BDC5-FEECD8F6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D726-891D-4DC5-A13B-DC72F869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AC44-238E-4879-B94F-FFB0FACE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BC4B-9F90-41ED-A536-816B8915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5E60-7902-4A9B-84EB-49B6FFEB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382-339F-4223-849A-B6B109A1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EFAF-0245-43A2-95AD-DE86CA5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D32-6796-4752-B47F-2867CA8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F461-F2B6-4749-931D-D895213A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A26D-7230-433D-8869-E3F58A7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3360-36FB-4A9D-AFD3-66CF967F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126-EB24-4CFE-8EB5-E682FA06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0A95-C85A-4860-A85C-B81482B1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613-94A4-4713-A4B5-5A3E3488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5088-F9DA-4220-B567-3A1A8F36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55D2B-508D-426E-90C8-E6B11B5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EB3A-19AF-4B07-A2B5-AED31539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0BC-CCEB-4888-BF62-9410BC7B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ECA9-453E-4D3E-A422-8CA17F77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3880-5BA6-41E1-B9A4-614E1FA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B552-F1BD-4AE7-8AFA-560CE28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0E89-67AD-4E7E-A5C6-423BBB1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1071-5544-43B7-B200-A68F2E9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86F0-EC1F-4B3A-B90F-D0209D51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BFC4-EDDD-4005-93B0-9E2A5EE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CBEB-0230-4F7E-B78F-91DE68C9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80A5-4C86-429D-BE1E-49E17D4B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9363-E8E3-4E2D-8ACB-01038E3A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C30-147A-4375-B898-986BC2C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7848-A6D1-4CD7-8235-BEFFDC3B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DD2E-D67F-443B-83E0-4FEA07DA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5D51-A69A-48E9-AC41-2E84D93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2E90-04EB-4D8D-A0DB-8F23F2E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0808-2FA7-455B-ABFD-D38779F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0C57-C82A-4E56-A3DC-AF113196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E4B1-F6EF-439E-A102-8C723A8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6C0E0-7507-49C0-92B6-126C49B1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A88E-3789-4F31-8A72-D1C0A297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8CB95-9C4A-49D7-8342-8055F9B8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7AB-03FE-4732-83A1-E032BFC9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E60E5-CBC0-4590-8F28-A9E1414C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755AC-8033-48FC-A433-F0B0FDB8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E409D-0BEB-4140-8B8D-FDC86362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C4479-5F73-43A6-AB55-541605B5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3BB2-0EB0-4339-BF81-5249581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F1B0-DF70-445A-B8D6-DA4A872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77B2-95A6-46E2-869B-4147A87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5137-1A75-4907-81E5-B4F21E5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5680-3E7E-43AF-AA7C-1E5FD43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E5338-75ED-43AD-B687-199FD5E8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75C-49F2-457C-9553-83CA09A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6F89-3E26-44CA-8DDB-9B42E708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225B8-44E7-4A65-BAD2-AD80858D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A4F13-5C8D-40A8-84F9-23948F89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9A95-E14B-41CC-B6A3-F210271D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54D4F-9FB1-40E3-B2D4-CB90018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9EC3-D427-40E3-9622-047A19E4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1989-594D-4151-AAD0-CF25F275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AF64-157C-41DC-A923-460D2B56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18FA3-66AA-4C7E-BB0B-3580B3C2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29F1D-64D0-480D-B291-B2F58DD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12D-256C-4088-A34E-DD29E30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D0DD-4884-4FC9-8CCA-F606E17A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458A-6778-49CE-A2F4-9FB1377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1596-4C13-4979-A913-81B68AB8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1668D-51BA-4DE6-A743-4D795896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847C-E55A-49D9-A7A0-CB169347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4CA4D-BDD6-4680-98F9-7CD9A6A1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4D432-A36C-4E2F-AA86-35B7B519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A6232-0815-411B-BCA0-C266BA9A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537D8-1012-4E1F-8CD2-651B6F4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84EE-C96A-4F10-97D3-281EBB2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C9B-30B8-43E7-9A49-0563A260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0076-BC8A-4E84-A323-FD6F9C8C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BC339-CA79-4F25-A1D6-98F1D85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88C72-232F-4211-BF2F-1916D60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9D40-0BB4-4000-8F19-F9F50C6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C01F-E6B8-4915-AE84-C39A36F5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8609-DA70-410A-9C0E-A38C806D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8BE7-AB81-4AFB-B83F-3D86128A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2EA6C-54DC-46B0-AF1A-A2164DF2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5F0A1-1E65-45F3-9A4D-BF7C5100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E0976-53D4-4C1C-AD54-1A43ACAA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3F23-A886-41B0-9965-3C8902AE1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E20C-447A-4AF8-86E2-5325AFC0F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4D6-EB43-4CC7-A6E3-B028E0560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223B-269B-4E01-9035-A0DDB3AA7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6C5E-9EBC-45AF-8E9A-10A95DF61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DF6A-75A4-4784-B63C-2D7C9D20F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91A6-1743-4AC4-B1EC-2F257A21E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C58-A5DD-4355-9F90-D4D92A2C5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7115-D233-48C7-8DD6-79FC3859A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jective: Students will be able to identify plagiarized information and understand that plagiarism is dishone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ing plagiarism by summarizing or paraphrasing means more than switching/adding/deleting a few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iarism Exampl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iginal text: 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oning may soon enable us to realize the dream of xenotransplantation, by making possible the production of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rds of genetically modified pig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could provide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arts, livers, and kidneys to human patients</a:t>
            </a:r>
            <a:r>
              <a:rPr b="0" lang="en-US" sz="2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o would otherwise die waiting for human organ transplants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Klotzko, 130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lagiarized vers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on scientists will be able to use cloning techniques to create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rds of genetically modified pigs</a:t>
            </a:r>
            <a:r>
              <a:rPr b="0" lang="en-US" sz="26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to give </a:t>
            </a:r>
            <a:r>
              <a:rPr b="0" i="1" lang="en-US" sz="2600" spc="-1" strike="noStrike">
                <a:solidFill>
                  <a:srgbClr val="e46c0a"/>
                </a:solidFill>
                <a:latin typeface="Calibri"/>
              </a:rPr>
              <a:t>hearts, livers, and kidneys to human patie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iting on the transplant li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urce: Klotzko, Arlene Judith, ed. 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</a:rPr>
              <a:t>The Cloning Sourcebook.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Oxford: Oxford University Press, 2001. Prin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iarism means copying, stealing, or che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plagiarize you are being academically dishonest and can be pun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void plagiarizing, take notes on what you found and where you found  it.  You will need these notes later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information correc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py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 must do your own work AND you must give credit when you use the work of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4" descr="MCj02908650000[1]"/>
          <p:cNvPicPr/>
          <p:nvPr/>
        </p:nvPicPr>
        <p:blipFill>
          <a:blip r:embed="rId1"/>
          <a:stretch/>
        </p:blipFill>
        <p:spPr>
          <a:xfrm>
            <a:off x="990720" y="1523880"/>
            <a:ext cx="2016000" cy="2076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C:\Users\Operator\AppData\Local\Microsoft\Windows\Temporary Internet Files\Content.IE5\PILW3NX2\MC900239695[1].wmf"/>
          <p:cNvPicPr/>
          <p:nvPr/>
        </p:nvPicPr>
        <p:blipFill>
          <a:blip r:embed="rId2"/>
          <a:stretch/>
        </p:blipFill>
        <p:spPr>
          <a:xfrm>
            <a:off x="6477120" y="1828800"/>
            <a:ext cx="1708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Plagiar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 plagiarism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ing something word for wo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lf-plagiarism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using a paper that you wrote for another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Plagiar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ident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ntentional plagia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not citing your sources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us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iming credit for work someone else did for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s if you plagiari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GUILTY of academic dishones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ces for plagiarizing ma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ing all points on an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ing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ulsion from scho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punishment will depend on the severity of the offense and your school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policy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MCj02908850000[1]"/>
          <p:cNvPicPr/>
          <p:nvPr/>
        </p:nvPicPr>
        <p:blipFill>
          <a:blip r:embed="rId1"/>
          <a:stretch/>
        </p:blipFill>
        <p:spPr>
          <a:xfrm>
            <a:off x="6858000" y="3733920"/>
            <a:ext cx="1665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why do people plagiari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on't know what they're doing is wr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're tir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're behi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're stressed o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 dishon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C:\Users\Operator\AppData\Local\Microsoft\Windows\Temporary Internet Files\Content.IE5\PILW3NX2\MC900368632[1].wmf"/>
          <p:cNvPicPr/>
          <p:nvPr/>
        </p:nvPicPr>
        <p:blipFill>
          <a:blip r:embed="rId1"/>
          <a:stretch/>
        </p:blipFill>
        <p:spPr>
          <a:xfrm>
            <a:off x="6172200" y="3276720"/>
            <a:ext cx="1932120" cy="1307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C:\Users\Operator\AppData\Local\Microsoft\Windows\Temporary Internet Files\Content.IE5\AK5KHZUF\MC900230545[1].wmf"/>
          <p:cNvPicPr/>
          <p:nvPr/>
        </p:nvPicPr>
        <p:blipFill>
          <a:blip r:embed="rId2"/>
          <a:stretch/>
        </p:blipFill>
        <p:spPr>
          <a:xfrm>
            <a:off x="2819520" y="4800600"/>
            <a:ext cx="11142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avoid plagia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track of your research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quotations, summaries or paraphr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't copy and paste!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procrastina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3" descr="C:\Users\Operator\AppData\Local\Microsoft\Windows\Temporary Internet Files\Content.IE5\G505IBG5\MC900432573[1].png"/>
          <p:cNvPicPr/>
          <p:nvPr/>
        </p:nvPicPr>
        <p:blipFill>
          <a:blip r:embed="rId1"/>
          <a:stretch/>
        </p:blipFill>
        <p:spPr>
          <a:xfrm>
            <a:off x="259092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Users\Operator\AppData\Local\Microsoft\Windows\Temporary Internet Files\Content.IE5\AK5KHZUF\MC900434810[1].png"/>
          <p:cNvPicPr/>
          <p:nvPr/>
        </p:nvPicPr>
        <p:blipFill>
          <a:blip r:embed="rId2"/>
          <a:stretch/>
        </p:blipFill>
        <p:spPr>
          <a:xfrm>
            <a:off x="6019920" y="342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I have to give credit for everything I wri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.  You do not have to give credit for information that is considered common knowledge, for examp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orge Bush is a Republican from Tex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t Lake City is the capital of Uta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ile is a river in Egyp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f you use someone's idea or their interpretation of an idea or event, then you must give cred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giarism Exampl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ginal text: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r league baseball historically is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as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American as drive-in movies and Fourth of July parad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It is still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small-town U.S.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, in feel if not in fac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ielly 206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giariz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aseball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minor leagues are historically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as American as drive-in movies and Fourth of July parade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n in </a:t>
            </a:r>
            <a:r>
              <a:rPr b="0" i="1" lang="en-US" sz="3200" spc="-1" strike="noStrike">
                <a:solidFill>
                  <a:srgbClr val="e46c0a"/>
                </a:solidFill>
                <a:latin typeface="Calibri"/>
              </a:rPr>
              <a:t>small-town US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urce: Rielly, Edward J. 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</a:rPr>
              <a:t>Baseball: An Encyclopedia of Popular Culture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anta Barbara, CA: ABC-CLIO, 2000. Prin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57:09Z</dcterms:created>
  <dc:creator>Operator</dc:creator>
  <dc:description/>
  <dc:language>en-US</dc:language>
  <cp:lastModifiedBy>Laurel Harris</cp:lastModifiedBy>
  <dcterms:modified xsi:type="dcterms:W3CDTF">2013-09-09T13:58:12Z</dcterms:modified>
  <cp:revision>15</cp:revision>
  <dc:subject/>
  <dc:title>Slide 1</dc:title>
</cp:coreProperties>
</file>